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8C8-3C2B-42C1-91FF-5FC73A74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82E-9B13-4F28-B8DB-CED4A475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56F-F926-41FE-9C2F-9E683102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F44-5FF8-43C5-8E35-27BC180F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6AC-F8AE-42E1-A9F0-1A30A54E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CFA-1297-4C85-859A-D67AC612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727-D39F-41F8-A961-4B38A42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608-D4F4-4B97-88BD-790B133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C81-781C-481B-8FBB-40F1EF0C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58F-FC93-4314-A7D0-0F2D3D31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887-8C27-4B7D-BC57-AC9C3EC8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AF9-6A40-4447-90D9-11F4DFFB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943-75D3-4025-B1B0-0DA46369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Field 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field trips are designed to have students take a guided tour through the web of places around the county for a online learning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 – Cost efficient, you can explore over 1,000 different places throughout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orporates technology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 – Hands on and getting the full effect of the places you are vie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0:02:05Z</dcterms:created>
  <dc:creator>Jamie Kuni</dc:creator>
  <dc:description/>
  <dc:language>en-US</dc:language>
  <cp:lastModifiedBy>Jamie Kuni</cp:lastModifiedBy>
  <dcterms:modified xsi:type="dcterms:W3CDTF">2009-07-27T00:43:02Z</dcterms:modified>
  <cp:revision>3</cp:revision>
  <dc:subject/>
  <dc:title>Slide 1</dc:title>
</cp:coreProperties>
</file>